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B9F-BEEB-4B1F-A59A-33E918C9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B4B-1B0E-4BF2-A9DB-104ECF1D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76B-93F3-4A7A-A63A-62C3E3F7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4C1-7816-451E-AA44-51DB1983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800-D9B4-4D1B-8A6E-5F947AF1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5ED-ED15-4EC5-AEF1-2D10CCE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CEC-FC98-49D8-A07E-431391D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7AF-1681-45F5-AA38-3F92F2C3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9DA-1299-4099-A569-F41D22B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0BB-5BE6-448F-A65B-A139D4F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C0D-55A4-4D9E-B355-57BBA34E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AEA-EAF4-4C91-863D-061369D9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7460-E6FE-4E58-A475-67BAC317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2895480"/>
            <a:ext cx="388620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56:37Z</dcterms:modified>
  <cp:revision>43</cp:revision>
  <dc:subject/>
  <dc:title>PowerPoint Presentation</dc:title>
</cp:coreProperties>
</file>